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47910-BFAD-4205-8DD1-FF9DD37BD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6416C-FB46-413B-A7DD-78C2E2377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CF8E5-D6AA-42C4-ADC5-8D3053D96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32F74-9354-4E5B-9380-BB90B30E0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21529-AE20-4B3C-8353-9CCBB3BBF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9817A-2C8D-445E-9DE6-4D8540F6C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B89E8-16A5-40A1-AE76-45187FB59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78D24-C847-436A-B0B7-E495DFF5A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18F94-8761-4F9B-8DD2-769441610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240C4-9EEA-4970-98DF-49B105C9C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43585-92E5-4857-AFB0-4367DAE4A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E3F2D-9CB9-43EC-B38D-66D9B56D1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11424-6296-4831-9AB3-22EF316A3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34A09-1279-47CF-A3DA-01329D0AD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3A06B-4261-4973-A493-333619DD7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054BB-BE9B-4928-9FEF-6A0C687AE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C4C67-84D2-4088-9D2C-697B7C58D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D9AB0-EF01-4A24-BAB9-6F57FB47E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C9E24-8F42-4895-BA96-EAD446E2F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90E3B-4FE3-43BE-BC0D-3AC3FA17A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D48F8-7B03-4EFE-9192-DB0D60564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01A8E-B8D2-43EE-BBFB-509A61EB1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4E1EF-5C4F-4454-A1E5-E031E7754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CDB04-45E9-4AB8-B5AD-C99FDD060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5FE17-7DA3-4644-9A8C-1FE6F389624C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CB5CF-DF56-45F2-8D7D-912DF102CC98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fisicoquimico.wikispaces.com/" TargetMode="External"/><Relationship Id="rId2" Type="http://schemas.openxmlformats.org/officeDocument/2006/relationships/hyperlink" Target="http://matematicaemfoco.wikispaces.com/" TargetMode="External"/><Relationship Id="rId3" Type="http://schemas.openxmlformats.org/officeDocument/2006/relationships/hyperlink" Target="http://biologiaevida.wikispaces.com/" TargetMode="External"/><Relationship Id="rId4" Type="http://schemas.openxmlformats.org/officeDocument/2006/relationships/hyperlink" Target="http://nossahistoria.wikispaces.com/" TargetMode="External"/><Relationship Id="rId5" Type="http://schemas.openxmlformats.org/officeDocument/2006/relationships/hyperlink" Target="http://willianedufisica.wikispaces.com/" TargetMode="External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I ENCONTRO DE PSTE - 2009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6666"/>
                </a:solidFill>
                <a:latin typeface="Times New Roman"/>
              </a:rPr>
              <a:t>E. E. Austrílio Capilé Castro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6666"/>
                </a:solidFill>
                <a:latin typeface="Times New Roman"/>
              </a:rPr>
              <a:t>Nova Andradina - MS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NTEÚDO PROGRAMÁTIC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66"/>
                </a:solidFill>
                <a:latin typeface="Times New Roman"/>
              </a:rPr>
              <a:t>5º DIA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pt-BR" sz="3200" spc="-1" strike="noStrike">
                <a:solidFill>
                  <a:srgbClr val="003366"/>
                </a:solidFill>
                <a:latin typeface="Times New Roman"/>
              </a:rPr>
              <a:t>Wikispaces: Assistência para manutenção da página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pt-BR" sz="3200" spc="-1" strike="noStrike">
                <a:solidFill>
                  <a:srgbClr val="003366"/>
                </a:solidFill>
                <a:latin typeface="Times New Roman"/>
              </a:rPr>
              <a:t>Elaboração de um plano de ensino no wiki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pt-BR" sz="3200" spc="-1" strike="noStrike">
                <a:solidFill>
                  <a:srgbClr val="003366"/>
                </a:solidFill>
                <a:latin typeface="Times New Roman"/>
              </a:rPr>
              <a:t>Vespertino: Valéria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pt-BR" sz="3200" spc="-1" strike="noStrike">
                <a:solidFill>
                  <a:srgbClr val="003366"/>
                </a:solidFill>
                <a:latin typeface="Times New Roman"/>
              </a:rPr>
              <a:t>Noturno: Giovana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ESULTADO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Os resultados obtidos com a aplicação do curso ATAC I superaram o esperado. Todos os professores que participaram do curso possuem agora uma página na internet e contam com os recursos aprendidos para a implementação de suas práticas pedagógicas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QUIP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3366"/>
                </a:solidFill>
                <a:latin typeface="Times New Roman"/>
              </a:rPr>
              <a:t>E. E. ANTÔNIO JOAQUIM DE MOURA ANDRAD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Times New Roman"/>
              </a:rPr>
              <a:t>Professores:</a:t>
            </a:r>
            <a:r>
              <a:rPr b="0" lang="pt-BR" sz="20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pt-BR" sz="2000" spc="-1" strike="noStrike">
                <a:solidFill>
                  <a:srgbClr val="003366"/>
                </a:solidFill>
                <a:latin typeface="Times New Roman"/>
              </a:rPr>
              <a:t> Euzébio de Souza (vespertino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pt-BR" sz="20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pt-BR" sz="20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pt-BR" sz="2000" spc="-1" strike="noStrike">
                <a:solidFill>
                  <a:srgbClr val="003366"/>
                </a:solidFill>
                <a:latin typeface="Times New Roman"/>
              </a:rPr>
              <a:t>Gisele Maria Gomes (Noturno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3366"/>
                </a:solidFill>
                <a:latin typeface="Times New Roman"/>
              </a:rPr>
              <a:t>E. E. AUSTRÍLIO CAPILÉ CASTR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Times New Roman"/>
              </a:rPr>
              <a:t>Professores:</a:t>
            </a:r>
            <a:r>
              <a:rPr b="0" lang="pt-BR" sz="20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pt-BR" sz="2000" spc="-1" strike="noStrike">
                <a:solidFill>
                  <a:srgbClr val="003366"/>
                </a:solidFill>
                <a:latin typeface="Times New Roman"/>
              </a:rPr>
              <a:t>Valéria dos Santos Pereira (matutino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pt-BR" sz="20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pt-BR" sz="20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pt-BR" sz="2000" spc="-1" strike="noStrike">
                <a:solidFill>
                  <a:srgbClr val="003366"/>
                </a:solidFill>
                <a:latin typeface="Times New Roman"/>
              </a:rPr>
              <a:t>Gisele Maria Gomes (noturno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3366"/>
                </a:solidFill>
                <a:latin typeface="Times New Roman"/>
              </a:rPr>
              <a:t>E. E. MARECHAL ROND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Times New Roman"/>
              </a:rPr>
              <a:t>Professores: </a:t>
            </a:r>
            <a:r>
              <a:rPr b="0" lang="pt-BR" sz="20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pt-BR" sz="2000" spc="-1" strike="noStrike">
                <a:solidFill>
                  <a:srgbClr val="003366"/>
                </a:solidFill>
                <a:latin typeface="Times New Roman"/>
              </a:rPr>
              <a:t>Giovana Ferreira de Almeida (matutino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pt-BR" sz="20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pt-BR" sz="20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pt-BR" sz="2000" spc="-1" strike="noStrike">
                <a:solidFill>
                  <a:srgbClr val="003366"/>
                </a:solidFill>
                <a:latin typeface="Times New Roman"/>
              </a:rPr>
              <a:t>Fábio José de Araújo (vespertino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pt-BR" sz="20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pt-BR" sz="20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pt-BR" sz="2000" spc="-1" strike="noStrike">
                <a:solidFill>
                  <a:srgbClr val="003366"/>
                </a:solidFill>
                <a:latin typeface="Times New Roman"/>
              </a:rPr>
              <a:t>Ana Patrícia Toledo Picolo (noturno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3366"/>
                </a:solidFill>
                <a:latin typeface="Times New Roman"/>
              </a:rPr>
              <a:t>E. E PADRE ANCHIET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Times New Roman"/>
              </a:rPr>
              <a:t>Professores: </a:t>
            </a:r>
            <a:r>
              <a:rPr b="0" lang="pt-BR" sz="20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pt-BR" sz="2000" spc="-1" strike="noStrike">
                <a:solidFill>
                  <a:srgbClr val="003366"/>
                </a:solidFill>
                <a:latin typeface="Times New Roman"/>
              </a:rPr>
              <a:t>Sônia Aparecida de Araújo Pereira (matutino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pt-BR" sz="20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pt-BR" sz="20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pt-BR" sz="2000" spc="-1" strike="noStrike">
                <a:solidFill>
                  <a:srgbClr val="003366"/>
                </a:solidFill>
                <a:latin typeface="Times New Roman"/>
              </a:rPr>
              <a:t>Michele Fernanda Picolo (vespertino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IKI dos participantes do projet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3366"/>
                </a:solidFill>
                <a:latin typeface="Arial"/>
              </a:rPr>
              <a:t>Claudemir Giacon</a:t>
            </a:r>
            <a:br>
              <a:rPr sz="2000"/>
            </a:br>
            <a:r>
              <a:rPr b="0" lang="pt-BR" sz="20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http://fisicoquimico.wikispaces.com</a:t>
            </a:r>
            <a:br>
              <a:rPr sz="2000"/>
            </a:br>
            <a:br>
              <a:rPr sz="2000"/>
            </a:br>
            <a:r>
              <a:rPr b="0" lang="pt-BR" sz="2000" spc="-1" strike="noStrike">
                <a:solidFill>
                  <a:srgbClr val="003366"/>
                </a:solidFill>
                <a:latin typeface="Arial"/>
              </a:rPr>
              <a:t>Juliana Bomfim</a:t>
            </a:r>
            <a:br>
              <a:rPr sz="2000"/>
            </a:br>
            <a:r>
              <a:rPr b="0" lang="pt-BR" sz="2000" spc="-1" strike="noStrike" u="sng">
                <a:solidFill>
                  <a:srgbClr val="003366"/>
                </a:solidFill>
                <a:uFillTx/>
                <a:latin typeface="Arial"/>
                <a:hlinkClick r:id="rId2"/>
              </a:rPr>
              <a:t>http://matematicaemfoco.wikispaces.com</a:t>
            </a:r>
            <a:br>
              <a:rPr sz="2000"/>
            </a:br>
            <a:br>
              <a:rPr sz="2000"/>
            </a:br>
            <a:r>
              <a:rPr b="0" lang="pt-BR" sz="2000" spc="-1" strike="noStrike">
                <a:solidFill>
                  <a:srgbClr val="003366"/>
                </a:solidFill>
                <a:latin typeface="Arial"/>
              </a:rPr>
              <a:t>Daniela Silva</a:t>
            </a:r>
            <a:br>
              <a:rPr sz="2000"/>
            </a:br>
            <a:r>
              <a:rPr b="0" lang="pt-BR" sz="2000" spc="-1" strike="noStrike" u="sng">
                <a:solidFill>
                  <a:srgbClr val="003366"/>
                </a:solidFill>
                <a:uFillTx/>
                <a:latin typeface="Arial"/>
                <a:hlinkClick r:id="rId3"/>
              </a:rPr>
              <a:t>http://biologiaevida.wikispaces.com</a:t>
            </a:r>
            <a:br>
              <a:rPr sz="2000"/>
            </a:br>
            <a:br>
              <a:rPr sz="2000"/>
            </a:br>
            <a:r>
              <a:rPr b="0" lang="pt-BR" sz="2000" spc="-1" strike="noStrike">
                <a:solidFill>
                  <a:srgbClr val="003366"/>
                </a:solidFill>
                <a:latin typeface="Arial"/>
              </a:rPr>
              <a:t>João Lazarini</a:t>
            </a:r>
            <a:br>
              <a:rPr sz="2000"/>
            </a:br>
            <a:r>
              <a:rPr b="0" lang="pt-BR" sz="2000" spc="-1" strike="noStrike" u="sng">
                <a:solidFill>
                  <a:srgbClr val="003366"/>
                </a:solidFill>
                <a:uFillTx/>
                <a:latin typeface="Arial"/>
                <a:hlinkClick r:id="rId4"/>
              </a:rPr>
              <a:t>http://nossahistoria.wikispaces.com</a:t>
            </a:r>
            <a:br>
              <a:rPr sz="2000"/>
            </a:br>
            <a:br>
              <a:rPr sz="2000"/>
            </a:br>
            <a:r>
              <a:rPr b="0" lang="pt-BR" sz="2000" spc="-1" strike="noStrike">
                <a:solidFill>
                  <a:srgbClr val="003366"/>
                </a:solidFill>
                <a:latin typeface="Arial"/>
              </a:rPr>
              <a:t>Willian Moraes</a:t>
            </a:r>
            <a:br>
              <a:rPr sz="2000"/>
            </a:br>
            <a:r>
              <a:rPr b="0" lang="pt-BR" sz="2000" spc="-1" strike="noStrike" u="sng">
                <a:solidFill>
                  <a:srgbClr val="003366"/>
                </a:solidFill>
                <a:uFillTx/>
                <a:latin typeface="Arial"/>
                <a:hlinkClick r:id="rId5"/>
              </a:rPr>
              <a:t>http://willianedufisica.wikispaces.com</a:t>
            </a:r>
            <a:r>
              <a:rPr b="0" lang="pt-BR" sz="2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URSO ATAC I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pt-BR" sz="3200" spc="-1" strike="noStrike">
                <a:solidFill>
                  <a:srgbClr val="003366"/>
                </a:solidFill>
                <a:latin typeface="Times New Roman"/>
              </a:rPr>
              <a:t>Projeto elaborado pelos professores das Salas de Tecnologias Educacionais das Escolas Estaduais: Antônio Joaquim de Moura Andrade, Austrílio Capilé Castro, Marechal Rondon e Padre Anchieta de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pt-BR" sz="3200" spc="-1" strike="noStrike">
                <a:solidFill>
                  <a:srgbClr val="003366"/>
                </a:solidFill>
                <a:latin typeface="Times New Roman"/>
              </a:rPr>
              <a:t>Nova Andradina, como cumprimento do cronograma do Plano de Ação - 2009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ATAC: AMBIENTES TECNOLÓGICOS DE APRENDIZAGEM COLABORATIVA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66"/>
                </a:solidFill>
                <a:latin typeface="Times New Roman"/>
              </a:rPr>
              <a:t>Área de Concentração:</a:t>
            </a: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 Aplicativos do Windows e ambientes Webtecnológico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66"/>
                </a:solidFill>
                <a:latin typeface="Times New Roman"/>
              </a:rPr>
              <a:t>Responsáveis:</a:t>
            </a: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 Professores das Salas de Tecnologias Educacionais das Escolas Estaduais Antônio Joaquim de Moura Andrade, Austrílio Capilé Castro, Marechal Rondon e Padre Anchieta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66"/>
                </a:solidFill>
                <a:latin typeface="Times New Roman"/>
              </a:rPr>
              <a:t>Local de Realização:</a:t>
            </a: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 Sala de cursos do Núcleo de Tecnologias Educacionais de Nova Andradina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66"/>
                </a:solidFill>
                <a:latin typeface="Times New Roman"/>
              </a:rPr>
              <a:t>Período de Realização:</a:t>
            </a: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 11 a 15 de maio de 2009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66"/>
                </a:solidFill>
                <a:latin typeface="Times New Roman"/>
              </a:rPr>
              <a:t>Público Alvo:</a:t>
            </a: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 Profissionais das Escolas Estaduais Antônio Joaquim de Moura Andrade, Austrílio Capilé Castro, Marechal Rondon e Padre Anchieta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OBJETIVO GERAL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pt-BR" sz="3200" spc="-1" strike="noStrike">
                <a:solidFill>
                  <a:srgbClr val="003366"/>
                </a:solidFill>
                <a:latin typeface="Times New Roman"/>
              </a:rPr>
              <a:t>Oferecer aos profissionais das Escolas Estaduais Antônio Joaquim de Moura Andrade, Austrílio Capilé Castro, Marechal Rondon e Padre Anchieta, o curso de formação ATAC I (Ambientes Tecnológicos de Aprendizagem Colaborativa)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Objetivos Específico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3366"/>
                </a:solidFill>
                <a:latin typeface="Times New Roman"/>
              </a:rPr>
              <a:t>- Melhorar o contato dos professores regentes com as tecnologias;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3366"/>
                </a:solidFill>
                <a:latin typeface="Times New Roman"/>
              </a:rPr>
              <a:t>- Contribuir com a formação e o conhecimento dos professores das escolas;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3366"/>
                </a:solidFill>
                <a:latin typeface="Times New Roman"/>
              </a:rPr>
              <a:t>- Apresentar as diversas ferramentas que compõem o curso ATAC – I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3366"/>
                </a:solidFill>
                <a:latin typeface="Times New Roman"/>
              </a:rPr>
              <a:t>- Propor a realização de atividades usando as web tecnologias e ferramentas do Windows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00640" y="1097640"/>
            <a:ext cx="7833960" cy="62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NTEÚDO PROGRAMÁTICO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66"/>
                </a:solidFill>
                <a:latin typeface="Times New Roman"/>
              </a:rPr>
              <a:t>1º DIA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pt-BR" sz="3200" spc="-1" strike="noStrike">
                <a:solidFill>
                  <a:srgbClr val="003366"/>
                </a:solidFill>
                <a:latin typeface="Times New Roman"/>
              </a:rPr>
              <a:t>Apresentação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pt-BR" sz="3200" spc="-1" strike="noStrike">
                <a:solidFill>
                  <a:srgbClr val="003366"/>
                </a:solidFill>
                <a:latin typeface="Times New Roman"/>
              </a:rPr>
              <a:t>Movie Maker (criação e edição de vídeos a partir do aplicativo do Windows)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pt-BR" sz="3200" spc="-1" strike="noStrike">
                <a:solidFill>
                  <a:srgbClr val="003366"/>
                </a:solidFill>
                <a:latin typeface="Times New Roman"/>
              </a:rPr>
              <a:t>Youtube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pt-BR" sz="3200" spc="-1" strike="noStrike">
                <a:solidFill>
                  <a:srgbClr val="003366"/>
                </a:solidFill>
                <a:latin typeface="Times New Roman"/>
              </a:rPr>
              <a:t>Vespertino: Fábio e Sônia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pt-BR" sz="3200" spc="-1" strike="noStrike">
                <a:solidFill>
                  <a:srgbClr val="003366"/>
                </a:solidFill>
                <a:latin typeface="Times New Roman"/>
              </a:rPr>
              <a:t>Noturno: Giovana e Ana Patrícia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NTEÚDO PROGRAMÁTIC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173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66"/>
                </a:solidFill>
                <a:latin typeface="Times New Roman"/>
              </a:rPr>
              <a:t>2º DIA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5173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pt-BR" sz="3200" spc="-1" strike="noStrike">
                <a:solidFill>
                  <a:srgbClr val="003366"/>
                </a:solidFill>
                <a:latin typeface="Times New Roman"/>
              </a:rPr>
              <a:t>PowerPoint (criação de slides a partir do aplicativo do Windows)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5173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pt-BR" sz="3200" spc="-1" strike="noStrike">
                <a:solidFill>
                  <a:srgbClr val="003366"/>
                </a:solidFill>
                <a:latin typeface="Times New Roman"/>
              </a:rPr>
              <a:t>Authorstream (publicação do slide na web)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5173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pt-BR" sz="3200" spc="-1" strike="noStrike">
                <a:solidFill>
                  <a:srgbClr val="003366"/>
                </a:solidFill>
                <a:latin typeface="Times New Roman"/>
              </a:rPr>
              <a:t>Vespertino: Fábio e Sônia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5173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pt-BR" sz="3200" spc="-1" strike="noStrike">
                <a:solidFill>
                  <a:srgbClr val="003366"/>
                </a:solidFill>
                <a:latin typeface="Times New Roman"/>
              </a:rPr>
              <a:t>Noturno: Gisele e Michele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NTEÚDO PROGRAMÁTIC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66"/>
                </a:solidFill>
                <a:latin typeface="Arial"/>
              </a:rPr>
              <a:t>3º DI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pt-BR" sz="3200" spc="-1" strike="noStrike">
                <a:solidFill>
                  <a:srgbClr val="003366"/>
                </a:solidFill>
                <a:latin typeface="Times New Roman"/>
              </a:rPr>
              <a:t>Wiki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pt-BR" sz="3200" spc="-1" strike="noStrike">
                <a:solidFill>
                  <a:srgbClr val="003366"/>
                </a:solidFill>
                <a:latin typeface="Times New Roman"/>
              </a:rPr>
              <a:t>Wikispaces (criação da página do professor)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pt-BR" sz="3200" spc="-1" strike="noStrike">
                <a:solidFill>
                  <a:srgbClr val="003366"/>
                </a:solidFill>
                <a:latin typeface="Times New Roman"/>
              </a:rPr>
              <a:t>Vespertino: Euzébio e Valéria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pt-BR" sz="3200" spc="-1" strike="noStrike">
                <a:solidFill>
                  <a:srgbClr val="003366"/>
                </a:solidFill>
                <a:latin typeface="Times New Roman"/>
              </a:rPr>
              <a:t>Noturno: Ana Patrícia, Gisele e Michele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NTEÚDO PROGRAMÁTIC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66"/>
                </a:solidFill>
                <a:latin typeface="Arial"/>
              </a:rPr>
              <a:t>4º DIA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Wikispaces (construção e manutenção da página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Vespertino: Euzébio e Valéri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Noturno: Ana Patrícia, Gisele e Michel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0T18:01:44Z</dcterms:created>
  <dc:creator>use</dc:creator>
  <dc:description/>
  <dc:language>en-US</dc:language>
  <cp:lastModifiedBy>use</cp:lastModifiedBy>
  <dcterms:modified xsi:type="dcterms:W3CDTF">2009-07-10T19:41:06Z</dcterms:modified>
  <cp:revision>2</cp:revision>
  <dc:subject/>
  <dc:title>CURSO ATAC I</dc:title>
</cp:coreProperties>
</file>